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D3C-3112-4A46-8337-CBFEE900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A60-4E37-4BF0-BF16-4A8BA811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ED6-6C07-4107-AB81-72089A1A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BF6-B32B-4259-AF9A-9444D63B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85B9-EC56-4227-BC5D-B02EBAD2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DB9-7BED-470D-B9C3-54622A04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9783-E3F3-4DF0-B08F-7087F078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EA0-3886-4D8C-A616-3361AAAF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167-2993-4995-929D-740944CC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0ED-94A6-4766-A918-2A972A4D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3103-031E-4B62-BFF4-70452E8D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F51-DAC2-4BC1-A0C3-C09B5461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FCC0-670E-4948-A8E7-E0649D124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, Mr. Ob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ade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8:54:53Z</dcterms:created>
  <dc:creator>Plantation Middle School</dc:creator>
  <dc:description/>
  <dc:language>en-US</dc:language>
  <cp:lastModifiedBy>Plantation Middle School</cp:lastModifiedBy>
  <dcterms:modified xsi:type="dcterms:W3CDTF">2009-09-08T18:56:32Z</dcterms:modified>
  <cp:revision>1</cp:revision>
  <dc:subject/>
  <dc:title>Our Goals</dc:title>
</cp:coreProperties>
</file>